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6E9CA-2A13-4416-8303-16E730380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35BC0-FCE8-43FF-B265-63EA88111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89FC0-E402-44D4-A39A-91CAB7753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8EEE8-D67F-4896-82C6-CA2A48378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72E52-6553-4E33-9314-93C7FFF47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B6DF5-9A60-4218-8140-B89969576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42FD6-8C18-4987-9CA1-445EA8E93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0ACE4-B3C5-4DC4-A2F6-E4A3FB29B6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03238-8D86-42A3-82E6-547ADE8BB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C15A2-A896-4D5E-976D-5F0699640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40F7D-FB97-4794-AF17-FB370E547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0C9DB-45F6-42B9-BCE5-74BAC55F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DDF8B-CD7D-4E92-BEB5-8AF5183E3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6817-A6D9-47F9-9856-A9661BDA0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DC2ED-2F82-4CAD-8DBB-3C4F4D726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BEC8D-3A13-4F86-B304-05FA0BE26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724CC-51EC-477F-8E76-12C63CEEB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2A23-4189-47D7-BAE6-885B8823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FE0B-A94A-43D0-BC44-52FADD06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895E-42E9-41A3-A969-C0503D2B3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4F12B-96A5-40CC-8B73-661860CEE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63E7-1AFC-4DEA-9DFE-BB27FD8B8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9D88-BB33-4F90-BB91-25E58931A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A7AA-9D48-4412-88F2-A0918C067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F972-487A-47EB-9C3B-1CF2EAE2334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A05F-6EE4-4174-BB59-CDD333915E90}"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hyperlink" Target="http://education.ti.com/sites/US/downloads/pdf/Research_Note_3_frequent_access.pdf"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ducation.ti.com/sites/US/downloads/pdf/research_heller_curtis.pdf" TargetMode="External"/><Relationship Id="rId2" Type="http://schemas.openxmlformats.org/officeDocument/2006/relationships/hyperlink" Target="http://education.ti.com/sites/US/downloads/pdf/research_heller_curtis.pdf" TargetMode="External"/><Relationship Id="rId3" Type="http://schemas.openxmlformats.org/officeDocument/2006/relationships/hyperlink" Target="http://education.ti.com/sites/US/downloads/pdf/research_heller_curtis.pdf" TargetMode="External"/><Relationship Id="rId4" Type="http://schemas.openxmlformats.org/officeDocument/2006/relationships/hyperlink" Target="http://education.ti.com/sites/US/downloads/pdf/research_heller_curtis.pdf" TargetMode="External"/><Relationship Id="rId5" Type="http://schemas.openxmlformats.org/officeDocument/2006/relationships/hyperlink" Target="http://education.ti.com/sites/US/downloads/pdf/research_heller_curtis.pdf"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ducation.ti.com/sites/US/downloads/pdf/research_dimock_sherron.pdf"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3"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15"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1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19"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3"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27"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u="sng">
                <a:solidFill>
                  <a:srgbClr val="999933"/>
                </a:solidFill>
                <a:uFillTx/>
                <a:latin typeface="Arial"/>
                <a:hlinkClick r:id="rId2"/>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Heller</a:t>
            </a:r>
            <a:r>
              <a:rPr b="0" lang="en-US" sz="2400" spc="-1" strike="noStrike" u="sng">
                <a:solidFill>
                  <a:srgbClr val="999933"/>
                </a:solidFill>
                <a:uFillTx/>
                <a:latin typeface="Arial"/>
                <a:hlinkClick r:id="rId4"/>
              </a:rPr>
              <a:t>, Curtis et al. 2005)</a:t>
            </a:r>
            <a:r>
              <a:rPr b="0" lang="en-US" sz="2400" spc="-1" strike="noStrike" u="sng">
                <a:solidFill>
                  <a:srgbClr val="999933"/>
                </a:solidFill>
                <a:uFillTx/>
                <a:latin typeface="Arial"/>
                <a:hlinkClick r:id="rId5"/>
              </a:rPr>
              <a:t> </a:t>
            </a:r>
            <a:endParaRPr b="0" lang="en-US" sz="24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95"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1"/>
              </a:rPr>
              <a:t> </a:t>
            </a: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45"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47"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49" name="PlaceHolder 2"/>
          <p:cNvSpPr>
            <a:spLocks noGrp="1"/>
          </p:cNvSpPr>
          <p:nvPr>
            <p:ph/>
          </p:nvPr>
        </p:nvSpPr>
        <p:spPr>
          <a:xfrm>
            <a:off x="1801800" y="2440080"/>
            <a:ext cx="602784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51"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53"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97"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55"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99"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05"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9"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9-01-01T18:10:46Z</dcterms:modified>
  <cp:revision>5</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